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F85-8010-4875-A412-A3333DE3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CC9-9C2D-4886-9326-DEE248C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A18-D6D1-4736-AA1E-1F6954EB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845-2D76-42DA-AF14-C1A5F141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EAD-6C31-4646-852D-876C8CE5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1D6-DC0C-46A1-9A22-4006C61A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401-0277-425C-81ED-887AF9D0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21A-CA80-492F-9ABF-2DE63C1D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6D9-1C21-419D-A5C8-CBA3D837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ED8-74B6-403F-9148-729D2F0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E17-FCCE-4555-ABBD-569C34C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76F-309D-447E-BACA-56C5A9F1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EE33C-0E46-4E1C-99FB-EBD5CF735B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95360" y="1271520"/>
            <a:ext cx="8385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A Travel 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3019320" y="4605480"/>
            <a:ext cx="562464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 23"/>
          <p:cNvGrpSpPr/>
          <p:nvPr/>
        </p:nvGrpSpPr>
        <p:grpSpPr>
          <a:xfrm>
            <a:off x="-369720" y="4761000"/>
            <a:ext cx="1660320" cy="2087640"/>
            <a:chOff x="-369720" y="4761000"/>
            <a:chExt cx="1660320" cy="2087640"/>
          </a:xfrm>
        </p:grpSpPr>
        <p:pic>
          <p:nvPicPr>
            <p:cNvPr id="12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7200" y="4761000"/>
              <a:ext cx="50508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4592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文本框 8" descr=""/>
          <p:cNvPicPr/>
          <p:nvPr/>
        </p:nvPicPr>
        <p:blipFill>
          <a:blip r:embed="rId3"/>
          <a:stretch/>
        </p:blipFill>
        <p:spPr>
          <a:xfrm>
            <a:off x="2544840" y="95400"/>
            <a:ext cx="4186080" cy="152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504720" y="1114560"/>
            <a:ext cx="826632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文本框 25" descr=""/>
          <p:cNvPicPr/>
          <p:nvPr/>
        </p:nvPicPr>
        <p:blipFill>
          <a:blip r:embed="rId1"/>
          <a:stretch/>
        </p:blipFill>
        <p:spPr>
          <a:xfrm>
            <a:off x="1803240" y="117360"/>
            <a:ext cx="6186600" cy="140040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 19"/>
          <p:cNvGrpSpPr/>
          <p:nvPr/>
        </p:nvGrpSpPr>
        <p:grpSpPr>
          <a:xfrm>
            <a:off x="-244440" y="4687920"/>
            <a:ext cx="1660320" cy="2185920"/>
            <a:chOff x="-244440" y="4687920"/>
            <a:chExt cx="1660320" cy="2185920"/>
          </a:xfrm>
        </p:grpSpPr>
        <p:pic>
          <p:nvPicPr>
            <p:cNvPr id="13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237960" y="46879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44440" y="527076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14" descr=""/>
          <p:cNvPicPr/>
          <p:nvPr/>
        </p:nvPicPr>
        <p:blipFill>
          <a:blip r:embed="rId4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"/>
          <p:cNvPicPr/>
          <p:nvPr/>
        </p:nvPicPr>
        <p:blipFill>
          <a:blip r:embed="rId5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C:\Users\john\Desktop\2.png"/>
          <p:cNvPicPr/>
          <p:nvPr/>
        </p:nvPicPr>
        <p:blipFill>
          <a:blip r:embed="rId6"/>
          <a:stretch/>
        </p:blipFill>
        <p:spPr>
          <a:xfrm>
            <a:off x="954000" y="1023840"/>
            <a:ext cx="7405920" cy="4430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3032280" y="4957920"/>
            <a:ext cx="53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h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  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   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7"/>
          <p:cNvSpPr/>
          <p:nvPr/>
        </p:nvSpPr>
        <p:spPr>
          <a:xfrm>
            <a:off x="3268800" y="1665360"/>
            <a:ext cx="48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双元音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 aɪ /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发音规则［难点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"/>
          <p:cNvGrpSpPr/>
          <p:nvPr/>
        </p:nvGrpSpPr>
        <p:grpSpPr>
          <a:xfrm>
            <a:off x="577800" y="1706400"/>
            <a:ext cx="2549520" cy="667080"/>
            <a:chOff x="577800" y="1706400"/>
            <a:chExt cx="2549520" cy="667080"/>
          </a:xfrm>
        </p:grpSpPr>
        <p:sp>
          <p:nvSpPr>
            <p:cNvPr id="143" name="圆角矩形 18"/>
            <p:cNvSpPr/>
            <p:nvPr/>
          </p:nvSpPr>
          <p:spPr>
            <a:xfrm>
              <a:off x="1349280" y="1784160"/>
              <a:ext cx="177804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19"/>
            <p:cNvSpPr/>
            <p:nvPr/>
          </p:nvSpPr>
          <p:spPr>
            <a:xfrm>
              <a:off x="1630440" y="17650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77800" y="1706400"/>
              <a:ext cx="1087560" cy="667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6" name=""/>
          <p:cNvGraphicFramePr/>
          <p:nvPr/>
        </p:nvGraphicFramePr>
        <p:xfrm>
          <a:off x="860400" y="2712960"/>
          <a:ext cx="7656480" cy="3036960"/>
        </p:xfrm>
        <a:graphic>
          <a:graphicData uri="http://schemas.openxmlformats.org/drawingml/2006/table">
            <a:tbl>
              <a:tblPr/>
              <a:tblGrid>
                <a:gridCol w="2457360"/>
                <a:gridCol w="2276640"/>
                <a:gridCol w="2922480"/>
              </a:tblGrid>
              <a:tr h="566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字母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音要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口型示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0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gh: high, tonight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: my, t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: nice, fine, 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aɪ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双元音，发音时，由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a/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滑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ɪ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，前重后轻口形随之变化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" descr=""/>
          <p:cNvPicPr/>
          <p:nvPr/>
        </p:nvPicPr>
        <p:blipFill>
          <a:blip r:embed="rId3"/>
          <a:stretch/>
        </p:blipFill>
        <p:spPr>
          <a:xfrm>
            <a:off x="5716440" y="3886200"/>
            <a:ext cx="268776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1274760" y="1684440"/>
            <a:ext cx="688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Mr. Smith _____ a trip to 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re going to  B. is going to  C. is go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Today is Thursday. Tomorrow is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un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Friday        C. 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We have no lessons _____ Saturdays or Sun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n                   B. with           C.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4"/>
          <p:cNvGrpSpPr/>
          <p:nvPr/>
        </p:nvGrpSpPr>
        <p:grpSpPr>
          <a:xfrm>
            <a:off x="7090920" y="1214280"/>
            <a:ext cx="1710360" cy="368280"/>
            <a:chOff x="7090920" y="1214280"/>
            <a:chExt cx="1710360" cy="368280"/>
          </a:xfrm>
        </p:grpSpPr>
        <p:sp>
          <p:nvSpPr>
            <p:cNvPr id="151" name="矩形 15"/>
            <p:cNvSpPr/>
            <p:nvPr/>
          </p:nvSpPr>
          <p:spPr>
            <a:xfrm>
              <a:off x="7090920" y="12315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17"/>
            <p:cNvSpPr/>
            <p:nvPr/>
          </p:nvSpPr>
          <p:spPr>
            <a:xfrm>
              <a:off x="7147800" y="121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"/>
          <p:cNvSpPr/>
          <p:nvPr/>
        </p:nvSpPr>
        <p:spPr>
          <a:xfrm>
            <a:off x="3251160" y="2355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6110280" y="34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4394160" y="457200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8" descr=""/>
          <p:cNvPicPr/>
          <p:nvPr/>
        </p:nvPicPr>
        <p:blipFill>
          <a:blip r:embed="rId2"/>
          <a:stretch/>
        </p:blipFill>
        <p:spPr>
          <a:xfrm>
            <a:off x="6464160" y="2130480"/>
            <a:ext cx="1368720" cy="11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1322280" y="2152800"/>
            <a:ext cx="65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am getting ready _____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o hav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for    C. for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160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2"/>
          <p:cNvSpPr/>
          <p:nvPr/>
        </p:nvSpPr>
        <p:spPr>
          <a:xfrm>
            <a:off x="4363920" y="2274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71760" y="3416400"/>
            <a:ext cx="64800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6"/>
          <p:cNvSpPr/>
          <p:nvPr/>
        </p:nvSpPr>
        <p:spPr>
          <a:xfrm>
            <a:off x="2465280" y="3416400"/>
            <a:ext cx="54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get ready for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名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动名词；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get ready t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动词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1174680" y="1535040"/>
            <a:ext cx="695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看图片，写出对应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6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  __________  __________  __________  __________  __________  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24"/>
          <p:cNvGrpSpPr/>
          <p:nvPr/>
        </p:nvGrpSpPr>
        <p:grpSpPr>
          <a:xfrm>
            <a:off x="7090920" y="1173240"/>
            <a:ext cx="1710360" cy="368280"/>
            <a:chOff x="7090920" y="1173240"/>
            <a:chExt cx="1710360" cy="368280"/>
          </a:xfrm>
        </p:grpSpPr>
        <p:sp>
          <p:nvSpPr>
            <p:cNvPr id="169" name="矩形 25"/>
            <p:cNvSpPr/>
            <p:nvPr/>
          </p:nvSpPr>
          <p:spPr>
            <a:xfrm>
              <a:off x="7090920" y="119052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7"/>
            <p:cNvSpPr/>
            <p:nvPr/>
          </p:nvSpPr>
          <p:spPr>
            <a:xfrm>
              <a:off x="7147800" y="1173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3"/>
          <p:cNvSpPr/>
          <p:nvPr/>
        </p:nvSpPr>
        <p:spPr>
          <a:xfrm>
            <a:off x="1467000" y="34146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3162240" y="342900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4746600" y="343224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6305400" y="34052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4" descr=""/>
          <p:cNvPicPr/>
          <p:nvPr/>
        </p:nvPicPr>
        <p:blipFill>
          <a:blip r:embed="rId2"/>
          <a:stretch/>
        </p:blipFill>
        <p:spPr>
          <a:xfrm>
            <a:off x="1523880" y="2316240"/>
            <a:ext cx="88596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"/>
          <p:cNvPicPr/>
          <p:nvPr/>
        </p:nvPicPr>
        <p:blipFill>
          <a:blip r:embed="rId3"/>
          <a:stretch/>
        </p:blipFill>
        <p:spPr>
          <a:xfrm>
            <a:off x="3213000" y="2238480"/>
            <a:ext cx="933480" cy="119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"/>
          <p:cNvPicPr/>
          <p:nvPr/>
        </p:nvPicPr>
        <p:blipFill>
          <a:blip r:embed="rId4"/>
          <a:stretch/>
        </p:blipFill>
        <p:spPr>
          <a:xfrm>
            <a:off x="4818240" y="2262240"/>
            <a:ext cx="90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"/>
          <p:cNvPicPr/>
          <p:nvPr/>
        </p:nvPicPr>
        <p:blipFill>
          <a:blip r:embed="rId5"/>
          <a:stretch/>
        </p:blipFill>
        <p:spPr>
          <a:xfrm>
            <a:off x="6456240" y="2262240"/>
            <a:ext cx="86688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"/>
          <p:cNvPicPr/>
          <p:nvPr/>
        </p:nvPicPr>
        <p:blipFill>
          <a:blip r:embed="rId6"/>
          <a:stretch/>
        </p:blipFill>
        <p:spPr>
          <a:xfrm>
            <a:off x="2527200" y="4487760"/>
            <a:ext cx="885960" cy="111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"/>
          <p:cNvPicPr/>
          <p:nvPr/>
        </p:nvPicPr>
        <p:blipFill>
          <a:blip r:embed="rId7"/>
          <a:stretch/>
        </p:blipFill>
        <p:spPr>
          <a:xfrm>
            <a:off x="4149720" y="4444920"/>
            <a:ext cx="847800" cy="1123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0" descr=""/>
          <p:cNvPicPr/>
          <p:nvPr/>
        </p:nvPicPr>
        <p:blipFill>
          <a:blip r:embed="rId8"/>
          <a:stretch/>
        </p:blipFill>
        <p:spPr>
          <a:xfrm>
            <a:off x="5845320" y="4402080"/>
            <a:ext cx="914400" cy="1209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2058840" y="561960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3971880" y="56196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5667480" y="56260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930240" y="106200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855720" y="2722680"/>
            <a:ext cx="7205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un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n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es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dnes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  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es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ur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et read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going to travel by tr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will go to Beijing on Februar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9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93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987560" y="5211720"/>
            <a:ext cx="49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 plan for your tri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https://timgsa.baidu.com/timg?image&amp;quality=80&amp;size=b9999_10000&amp;sec=1497761682765&amp;di=fd302a4ed557ce6bc397449f6b499a78&amp;imgtype=0&amp;src=http%3A%2F%2Fimg01.51edu.com%2Fuploadfile%2F20150730%2F1438246719554257.jpg"/>
          <p:cNvPicPr/>
          <p:nvPr/>
        </p:nvPicPr>
        <p:blipFill>
          <a:blip r:embed="rId2"/>
          <a:stretch/>
        </p:blipFill>
        <p:spPr>
          <a:xfrm>
            <a:off x="1984320" y="1298520"/>
            <a:ext cx="48546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25" descr=""/>
          <p:cNvPicPr/>
          <p:nvPr/>
        </p:nvPicPr>
        <p:blipFill>
          <a:blip r:embed="rId1"/>
          <a:stretch/>
        </p:blipFill>
        <p:spPr>
          <a:xfrm>
            <a:off x="1666800" y="77760"/>
            <a:ext cx="65134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5" name="组 19"/>
          <p:cNvGrpSpPr/>
          <p:nvPr/>
        </p:nvGrpSpPr>
        <p:grpSpPr>
          <a:xfrm>
            <a:off x="-282600" y="4619520"/>
            <a:ext cx="1660680" cy="2216160"/>
            <a:chOff x="-282600" y="4619520"/>
            <a:chExt cx="1660680" cy="2216160"/>
          </a:xfrm>
        </p:grpSpPr>
        <p:pic>
          <p:nvPicPr>
            <p:cNvPr id="6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42120" y="461952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82600" y="523260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C:\Users\john\Desktop\1.png"/>
          <p:cNvPicPr/>
          <p:nvPr/>
        </p:nvPicPr>
        <p:blipFill>
          <a:blip r:embed="rId7"/>
          <a:stretch/>
        </p:blipFill>
        <p:spPr>
          <a:xfrm>
            <a:off x="452520" y="1255680"/>
            <a:ext cx="823752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3057480" y="1163520"/>
            <a:ext cx="53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going to travel by train. We will go to Beijing on February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7"/>
          <p:cNvSpPr/>
          <p:nvPr/>
        </p:nvSpPr>
        <p:spPr>
          <a:xfrm>
            <a:off x="2654280" y="1774800"/>
            <a:ext cx="593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 are going to travel by train. We will go to Beijing on February 3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将要乘火车去旅行。我们将在二月三日去北京。 ［难点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1"/>
          <p:cNvGrpSpPr/>
          <p:nvPr/>
        </p:nvGrpSpPr>
        <p:grpSpPr>
          <a:xfrm>
            <a:off x="-36360" y="1816200"/>
            <a:ext cx="2549520" cy="666720"/>
            <a:chOff x="-36360" y="1816200"/>
            <a:chExt cx="2549520" cy="666720"/>
          </a:xfrm>
        </p:grpSpPr>
        <p:sp>
          <p:nvSpPr>
            <p:cNvPr id="78" name="圆角矩形 18"/>
            <p:cNvSpPr/>
            <p:nvPr/>
          </p:nvSpPr>
          <p:spPr>
            <a:xfrm>
              <a:off x="735120" y="18939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19"/>
            <p:cNvSpPr/>
            <p:nvPr/>
          </p:nvSpPr>
          <p:spPr>
            <a:xfrm>
              <a:off x="1016280" y="18748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-36360" y="18162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5"/>
          <p:cNvSpPr/>
          <p:nvPr/>
        </p:nvSpPr>
        <p:spPr>
          <a:xfrm>
            <a:off x="1087560" y="41673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句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2048040" y="3997440"/>
            <a:ext cx="60544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be going t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will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135160" y="1984320"/>
            <a:ext cx="57085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上两个句式是一般将来时的基本结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某人将要做某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1100160" y="21495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166760" y="344340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2079720" y="3290760"/>
            <a:ext cx="5535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am going to visit my friend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I will visit my friend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明天将要去拜访我的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7"/>
          <p:cNvSpPr/>
          <p:nvPr/>
        </p:nvSpPr>
        <p:spPr>
          <a:xfrm>
            <a:off x="3056040" y="1224000"/>
            <a:ext cx="3030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星期几的词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"/>
          <p:cNvGrpSpPr/>
          <p:nvPr/>
        </p:nvGrpSpPr>
        <p:grpSpPr>
          <a:xfrm>
            <a:off x="631800" y="1297080"/>
            <a:ext cx="2516040" cy="558720"/>
            <a:chOff x="631800" y="1297080"/>
            <a:chExt cx="2516040" cy="558720"/>
          </a:xfrm>
        </p:grpSpPr>
        <p:sp>
          <p:nvSpPr>
            <p:cNvPr id="95" name="圆角矩形 18"/>
            <p:cNvSpPr/>
            <p:nvPr/>
          </p:nvSpPr>
          <p:spPr>
            <a:xfrm>
              <a:off x="1250640" y="1361880"/>
              <a:ext cx="1679400" cy="37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19"/>
            <p:cNvSpPr/>
            <p:nvPr/>
          </p:nvSpPr>
          <p:spPr>
            <a:xfrm>
              <a:off x="1734120" y="1325520"/>
              <a:ext cx="141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31800" y="1297080"/>
              <a:ext cx="1027080" cy="558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8" name=""/>
          <p:cNvGraphicFramePr/>
          <p:nvPr/>
        </p:nvGraphicFramePr>
        <p:xfrm>
          <a:off x="768240" y="1957320"/>
          <a:ext cx="7491240" cy="4162320"/>
        </p:xfrm>
        <a:graphic>
          <a:graphicData uri="http://schemas.openxmlformats.org/drawingml/2006/table">
            <a:tbl>
              <a:tblPr/>
              <a:tblGrid>
                <a:gridCol w="1271520"/>
                <a:gridCol w="1484280"/>
                <a:gridCol w="1287720"/>
                <a:gridCol w="811080"/>
                <a:gridCol w="2636640"/>
              </a:tblGrid>
              <a:tr h="579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缩写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来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row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ekday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工作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o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mʌn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oon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月亮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ues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tjuːz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u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iw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战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dnes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三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wenz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oden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urs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四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ɜːz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u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or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雷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ri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五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fraɪ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ri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rigg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爱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19160" y="2712960"/>
          <a:ext cx="7437600" cy="1403280"/>
        </p:xfrm>
        <a:graphic>
          <a:graphicData uri="http://schemas.openxmlformats.org/drawingml/2006/table">
            <a:tbl>
              <a:tblPr/>
              <a:tblGrid>
                <a:gridCol w="1541520"/>
                <a:gridCol w="1284120"/>
                <a:gridCol w="1301760"/>
                <a:gridCol w="820800"/>
                <a:gridCol w="2489400"/>
              </a:tblGrid>
              <a:tr h="7016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ekend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周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atur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sætə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aturn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农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un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日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sʌndeɪ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u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un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太阳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04880" y="180648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规律及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663480" y="2265480"/>
            <a:ext cx="7956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个词都是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缩写形式后面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在星期几用介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例如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Mon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星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上星期几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修饰，例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ast Sun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周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下星期几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x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修饰，例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xt Tues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周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7"/>
          <p:cNvSpPr/>
          <p:nvPr/>
        </p:nvSpPr>
        <p:spPr>
          <a:xfrm>
            <a:off x="3057480" y="1511280"/>
            <a:ext cx="4011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et ready for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"/>
          <p:cNvGrpSpPr/>
          <p:nvPr/>
        </p:nvGrpSpPr>
        <p:grpSpPr>
          <a:xfrm>
            <a:off x="414360" y="1584360"/>
            <a:ext cx="2549520" cy="666720"/>
            <a:chOff x="414360" y="1584360"/>
            <a:chExt cx="2549520" cy="666720"/>
          </a:xfrm>
        </p:grpSpPr>
        <p:sp>
          <p:nvSpPr>
            <p:cNvPr id="116" name="圆角矩形 18"/>
            <p:cNvSpPr/>
            <p:nvPr/>
          </p:nvSpPr>
          <p:spPr>
            <a:xfrm>
              <a:off x="1185840" y="16621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19"/>
            <p:cNvSpPr/>
            <p:nvPr/>
          </p:nvSpPr>
          <p:spPr>
            <a:xfrm>
              <a:off x="1467000" y="164304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14360" y="15843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Box 5"/>
          <p:cNvSpPr/>
          <p:nvPr/>
        </p:nvSpPr>
        <p:spPr>
          <a:xfrm>
            <a:off x="1531800" y="366552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义词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501920" y="2365200"/>
            <a:ext cx="9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3130560" y="3475080"/>
            <a:ext cx="38955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et ready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跟动词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2571840" y="2200320"/>
            <a:ext cx="56037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跟名词、动名词或代词，代词是人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词时，需用其宾格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519200" y="43322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2589120" y="4140360"/>
            <a:ext cx="54802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am getting ready for school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I am getting ready to go to school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正在为上学作准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01:22Z</dcterms:modified>
  <cp:revision>7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